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151-A0D0-48FB-AF75-CD268FF664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wis721 BT"/>
              </a:rPr>
              <a:t>En esta pantalla los alumnos deben completar con valores que tienen que indagar. Como se puede apreciar el docente </a:t>
            </a:r>
            <a:r>
              <a:rPr b="0" lang="es-ES_tradnl" sz="900" spc="-1" strike="noStrike">
                <a:solidFill>
                  <a:srgbClr val="000000"/>
                </a:solidFill>
                <a:latin typeface="Swis721 BT"/>
              </a:rPr>
              <a:t>no brinda los datos. Estos son incógnitas que una vez encontradas por los estudiantes se transforman en los datos del problem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014480" y="723960"/>
            <a:ext cx="4830840" cy="36226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esta diapositiva aparece el diagrama de momentos, las expresiones matemáticas de los momentos con de los coeficientes y la tabla de coeficientes en función de la cantidad de tramos y de g/q. Haciendo click en M1 se encuentra el coeficiente 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234-877A-4387-9D14-6065ABE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A22-5F1E-4C26-8CD3-AFC2751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145-399A-4022-8546-64DC61F8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9FF-D5EC-4E8F-BCC0-105117F1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2638-EC2E-42D4-84CE-30BD770A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2EA3-7426-4755-8906-0E463498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EA2-DEF0-495C-97B4-BC4CF40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A3A-EA1C-44EA-8A5D-C096483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A53F-748C-46AD-BA0D-D4EA06B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5217-0FA3-48BB-BC5D-DBC9ABA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B1B-3605-464B-A714-47F8CEF5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464-42E0-4691-A7D4-1B6F211C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6A59-BD28-4053-96A7-AAE9120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943-8ED8-44ED-8120-A673F83E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7AD4-BCC6-4CE8-A72F-F9CA571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A6E9-0282-4977-B6FF-A1DDA1EF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A626-8DFB-460B-88E4-BBE327E7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79A-4A70-46F3-B816-5826DDCF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744-00B8-46CF-95EE-8D631B3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4E2-E396-490A-BCF7-1697E9F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ED2-18D7-452D-9F15-B21B13D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CB1-2BA7-4887-BFD8-0BBEB21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9A6-36D1-4A51-998B-9163C59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2F6-8E7F-44FE-A970-B440096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D67A-32AE-49C6-8487-0E2FBE551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7280" y="6613560"/>
            <a:ext cx="110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Swis721 BT"/>
              </a:rPr>
              <a:t>Haydeé Nocet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61B-1C50-4D51-B778-B8B47F3AF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4572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Frisky"/>
              </a:rPr>
              <a:t>PROCESOS DE ENSEÑANZA Y DE APRENDIZAJE EN CONSTRUCCIÓN DE EDIFICIOS, BASADOS EN PROBL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enguiat Frisky"/>
              </a:rPr>
              <a:t>            </a:t>
            </a:r>
            <a:r>
              <a:rPr b="1" lang="es-ES_tradnl" sz="3200" spc="-1" strike="noStrike">
                <a:solidFill>
                  <a:srgbClr val="ccffff"/>
                </a:solidFill>
                <a:latin typeface="Benguiat Frisky"/>
              </a:rPr>
              <a:t>CONSTRUCCIONES DE HORMIGÓN AR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572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Benguiat Frisky"/>
              </a:rPr>
              <a:t>                                     </a:t>
            </a:r>
            <a:r>
              <a:rPr b="1" lang="es-ES_tradnl" sz="3200" spc="-1" strike="noStrike">
                <a:solidFill>
                  <a:srgbClr val="ffff66"/>
                </a:solidFill>
                <a:latin typeface="Benguiat Frisky"/>
              </a:rPr>
              <a:t>LOSAS CONTINU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60958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nguiat Bk BT"/>
              </a:rPr>
              <a:t>       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Benguiat Bk BT"/>
              </a:rPr>
              <a:t>Haydeé Noce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4120" y="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Benguiat Bk BT"/>
              </a:rPr>
              <a:t>Concurs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143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Realización de un Proyecto comple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BD10266_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30" name="BD10266_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514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Benguiat Bk BT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de arquitectu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1911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Fecha estimada de finalización: 10 de noviembre de 20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de estructu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Benguiat Bk BT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enguiat Bk BT"/>
              </a:rPr>
              <a:t>CONSIGNAS -</a:t>
            </a: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para la primera clase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23880"/>
            <a:ext cx="8077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1.- Localización  en el predio de la escuela del lugar donde se podría realizar la nueva constru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6389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6707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5818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49719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Swis721 Cn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6114960"/>
            <a:ext cx="601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7136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13644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57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Swis721 Cn BT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36576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4419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2.- Ubicación del lugar elegido en un plano de la escue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80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3.- Diseño, en forma de croquis  de la planta de los loc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752480"/>
            <a:ext cx="76197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4.- Diseño de la estructura (losas – vigas – columna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Benguiat Bk BT"/>
              </a:rPr>
              <a:t>(en todos los casos por lo menos dos losas serán continuas en la dirección 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1148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5.- Dimensionamiento de tres losas continuas armadas en una sola dire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066680"/>
            <a:ext cx="8410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57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enguiat Bk BT"/>
              </a:rPr>
              <a:t>OTRAS CONSIGN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219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1.- No se pueden cortar árbo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5146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2.- La estructura debe contemplar el uso exclusivamente del hormigón arm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4572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3.- La propuesta de localización debe ser en planta baja</a:t>
            </a:r>
            <a:r>
              <a:rPr b="1" lang="es-ES_tradnl" sz="3600" spc="-1" strike="noStrike">
                <a:solidFill>
                  <a:srgbClr val="0000ff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8080" y="380880"/>
            <a:ext cx="7543800" cy="42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4.- El edificio original de la escuela, por ser patrimonio histórico nacional, no puede ser ni demolido, ni modificado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Benguiat Bk BT"/>
              </a:rPr>
              <a:t>Atendiendo a sus condiciones estructurales, a la fecha está clausurado por el Gobierno de la Ciudad de Buenos Ai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D04972_" descr=""/>
          <p:cNvPicPr/>
          <p:nvPr/>
        </p:nvPicPr>
        <p:blipFill>
          <a:blip r:embed="rId2"/>
          <a:stretch/>
        </p:blipFill>
        <p:spPr>
          <a:xfrm>
            <a:off x="685800" y="480960"/>
            <a:ext cx="8458200" cy="589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57480" y="106668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5334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Benguiat Bk BT"/>
              </a:rPr>
              <a:t>    </a:t>
            </a:r>
            <a:r>
              <a:rPr b="1" lang="es-ES_tradnl" sz="3600" spc="-1" strike="noStrike">
                <a:solidFill>
                  <a:srgbClr val="ff0000"/>
                </a:solidFill>
                <a:latin typeface="Benguiat Bk BT"/>
              </a:rPr>
              <a:t>OBJE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BD04972_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3080" y="304920"/>
            <a:ext cx="84582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  <a:ea typeface="Times New Roman"/>
              </a:rPr>
              <a:t>    </a:t>
            </a:r>
            <a:r>
              <a:rPr b="0" lang="es-ES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Analizar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una </a:t>
            </a:r>
            <a:r>
              <a:rPr b="0" lang="es-ES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situaci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ón</a:t>
            </a:r>
            <a:r>
              <a:rPr b="0" lang="es-ES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 problemática real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 en l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  <a:ea typeface="Times New Roman"/>
              </a:rPr>
              <a:t>referente a: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 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comprender consign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 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determinar el sitio d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emplazamiento de la nuev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constru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D04972_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5791320" cy="6399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725400"/>
            <a:ext cx="9144000" cy="67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66"/>
                </a:solidFill>
                <a:latin typeface="Benguiat Bk BT"/>
                <a:ea typeface="Times New Roman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Interpretar consignas de trabaj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y plasmarlas en un proyecto que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cumpla con las condiciones de calidad y economí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E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laborar propuestas de diseño de estructuras, de acuerdo con las consignas dadas y con l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normativas vigentes para el diseño de losas de hormigón arma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D04972_" descr=""/>
          <p:cNvPicPr/>
          <p:nvPr/>
        </p:nvPicPr>
        <p:blipFill>
          <a:blip r:embed="rId2"/>
          <a:stretch/>
        </p:blipFill>
        <p:spPr>
          <a:xfrm>
            <a:off x="1981080" y="647640"/>
            <a:ext cx="6324840" cy="5448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380880"/>
            <a:ext cx="80010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Aplicar Normas y fórmulas para el  dimensionamiento de losas continuas de hormigón arma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ff"/>
                </a:solidFill>
                <a:latin typeface="Benguiat Bk BT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66"/>
                </a:solidFill>
                <a:latin typeface="Benguiat Bk BT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Usar tablas específicas para el 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dimensionamiento de losas continuas de </a:t>
            </a:r>
            <a:r>
              <a:rPr b="0" lang="es-ES_tradnl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Benguiat Bk BT"/>
                <a:ea typeface="Times New Roman"/>
              </a:rPr>
              <a:t>hormigón arma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wis721 Cn BT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95360" y="609480"/>
            <a:ext cx="815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enguiat Bk BT"/>
              </a:rPr>
              <a:t>Notas para el do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2692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Benguiat Bk BT"/>
              </a:rPr>
              <a:t>En la resolución de esta situación-problema al alumno se le irán presentando necesidades de adquisición de conocimientos, que requerirán la presentación y resolución de otros problemas, seguramente de menor envergadura que el plante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30481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Benguiat Bk BT"/>
              </a:rPr>
              <a:t>Por ejemplo, cuando realicen el diseño de la estructura solicitada, se les planteará, en una primera etapa,la necesidad de calcular losas continuas armadas en una sola dirección o losas cruz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5029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Benguiat Bk BT"/>
              </a:rPr>
              <a:t>Esto será aprovechado por el docente para plantear una nueva situación problemática, tal como la que le presentamos a continu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6858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20098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En la actualidad existen varias demandas provenientes de los docentes de Educación Física y de los preceptores de la escuel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enguiat Bk BT"/>
              </a:rPr>
              <a:t>SITUACIÓN - PROBL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072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33"/>
                </a:solidFill>
                <a:latin typeface="Comic Sans MS"/>
              </a:rPr>
              <a:t>La nueva consig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0280" y="1447920"/>
            <a:ext cx="7543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Realiza el diseño de la estructura de una azotea accesible compuesta por tres losas continuas armadas en una sola dir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A través de la animación en Power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oint</a:t>
            </a: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 debemos visualizar el proceso de diseño que incluya losas con apoyos en vigas; vigas y sus apoyos en colum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304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ff"/>
                </a:solidFill>
                <a:latin typeface="Benguiat Bk BT"/>
              </a:rPr>
              <a:t>La pantalla en bla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33"/>
                </a:solidFill>
                <a:latin typeface="Benguiat Bk BT"/>
              </a:rPr>
              <a:t>El alumno se queda solo frente a la consigna y a la panta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33"/>
                </a:solidFill>
                <a:latin typeface="Benguiat Bk BT"/>
              </a:rPr>
              <a:t>Con sus conocimientos previos deberá enfrentarse a este nuevo desafí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1240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33"/>
                </a:solidFill>
                <a:latin typeface="Benguiat Bk BT"/>
              </a:rPr>
              <a:t>Al principio, tal vez todo le parezca difícil,se le aparecerá un blanco total, pero el trabajo en grupo y con la orientación del/la docente, quien se integrará al mismo como facilitador/a del aprendizaje, saldrá adelante, como lo hicieron los alumnos de la 34</a:t>
            </a:r>
            <a:r>
              <a:rPr b="0" lang="es-ES_tradnl" sz="2400" spc="-1" strike="noStrike">
                <a:solidFill>
                  <a:srgbClr val="66ff33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914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47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58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7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3276720"/>
            <a:ext cx="685800" cy="6858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35268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81560" y="342900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352680"/>
            <a:ext cx="45720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6477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5943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387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533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3716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8002440" y="3563640"/>
            <a:ext cx="110484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enguiat Bk BT"/>
              </a:rPr>
              <a:t>8.20 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enguiat Bk BT"/>
              <a:ea typeface="Benguiat Bk BT"/>
            </a:endParaRPr>
          </a:p>
        </p:txBody>
      </p:sp>
      <p:sp>
        <p:nvSpPr>
          <p:cNvPr id="214" name=""/>
          <p:cNvSpPr/>
          <p:nvPr/>
        </p:nvSpPr>
        <p:spPr>
          <a:xfrm>
            <a:off x="343080" y="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049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Frisky"/>
              </a:rPr>
              <a:t>Una respuesta de los alum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371600"/>
            <a:ext cx="6858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5867280"/>
            <a:ext cx="6858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63868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828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33"/>
                </a:solidFill>
                <a:latin typeface="Comic Sans MS"/>
              </a:rPr>
              <a:t>Dimensiona la estructura que diseñaste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447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ANÁLISIS DE 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609480"/>
            <a:ext cx="1905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R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67480" y="60948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S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438280"/>
            <a:ext cx="2362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562720"/>
            <a:ext cx="42670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min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=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         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133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2024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d 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57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p 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(azotea accesi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191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g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5867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q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066680" y="2742840"/>
            <a:ext cx="9907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4038480"/>
            <a:ext cx="99072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371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219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P IconicSymbolsA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p.p. l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2362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P IconicSymbolsA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mezcla de as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97180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P IconicSymbolsA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mosa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8098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3657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P IconicSymbolsA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cielorraso de y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1752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P IconicSymbolsA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Benguiat Bk B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contrapi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5800" y="5029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Predimension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99"/>
                </a:solidFill>
                <a:latin typeface="Comic Sans MS"/>
              </a:rPr>
              <a:t>Búsqueda de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094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EN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1295280"/>
            <a:ext cx="685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95280" y="1295280"/>
            <a:ext cx="1028880" cy="304920"/>
            <a:chOff x="1295280" y="1295280"/>
            <a:chExt cx="1028880" cy="304920"/>
          </a:xfrm>
        </p:grpSpPr>
        <p:sp>
          <p:nvSpPr>
            <p:cNvPr id="252" name="Pyr1"/>
            <p:cNvSpPr/>
            <p:nvPr/>
          </p:nvSpPr>
          <p:spPr>
            <a:xfrm>
              <a:off x="1695600" y="1295280"/>
              <a:ext cx="230400" cy="673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Pyr2"/>
            <p:cNvSpPr/>
            <p:nvPr/>
          </p:nvSpPr>
          <p:spPr>
            <a:xfrm>
              <a:off x="1562040" y="1362600"/>
              <a:ext cx="496440" cy="79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Pyr3"/>
            <p:cNvSpPr/>
            <p:nvPr/>
          </p:nvSpPr>
          <p:spPr>
            <a:xfrm>
              <a:off x="1429920" y="1442160"/>
              <a:ext cx="760680" cy="79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Pyr4"/>
            <p:cNvSpPr/>
            <p:nvPr/>
          </p:nvSpPr>
          <p:spPr>
            <a:xfrm>
              <a:off x="1295280" y="1521000"/>
              <a:ext cx="1028880" cy="79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505320" y="1295280"/>
            <a:ext cx="1028520" cy="304920"/>
            <a:chOff x="3505320" y="1295280"/>
            <a:chExt cx="1028520" cy="304920"/>
          </a:xfrm>
        </p:grpSpPr>
        <p:sp>
          <p:nvSpPr>
            <p:cNvPr id="257" name="Pyr1"/>
            <p:cNvSpPr/>
            <p:nvPr/>
          </p:nvSpPr>
          <p:spPr>
            <a:xfrm>
              <a:off x="3905640" y="1295280"/>
              <a:ext cx="230400" cy="673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Pyr2"/>
            <p:cNvSpPr/>
            <p:nvPr/>
          </p:nvSpPr>
          <p:spPr>
            <a:xfrm>
              <a:off x="3772080" y="1362600"/>
              <a:ext cx="496440" cy="79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Pyr3"/>
            <p:cNvSpPr/>
            <p:nvPr/>
          </p:nvSpPr>
          <p:spPr>
            <a:xfrm>
              <a:off x="3639960" y="1442160"/>
              <a:ext cx="760320" cy="79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Pyr4"/>
            <p:cNvSpPr/>
            <p:nvPr/>
          </p:nvSpPr>
          <p:spPr>
            <a:xfrm>
              <a:off x="3505320" y="1521000"/>
              <a:ext cx="1028520" cy="79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38680" y="1295280"/>
            <a:ext cx="1028880" cy="304920"/>
            <a:chOff x="5638680" y="1295280"/>
            <a:chExt cx="1028880" cy="304920"/>
          </a:xfrm>
        </p:grpSpPr>
        <p:sp>
          <p:nvSpPr>
            <p:cNvPr id="262" name="Pyr1"/>
            <p:cNvSpPr/>
            <p:nvPr/>
          </p:nvSpPr>
          <p:spPr>
            <a:xfrm>
              <a:off x="6039000" y="1295280"/>
              <a:ext cx="230400" cy="673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Pyr2"/>
            <p:cNvSpPr/>
            <p:nvPr/>
          </p:nvSpPr>
          <p:spPr>
            <a:xfrm>
              <a:off x="5905440" y="1362600"/>
              <a:ext cx="496440" cy="79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Pyr3"/>
            <p:cNvSpPr/>
            <p:nvPr/>
          </p:nvSpPr>
          <p:spPr>
            <a:xfrm>
              <a:off x="5773320" y="1442160"/>
              <a:ext cx="760680" cy="79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Pyr4"/>
            <p:cNvSpPr/>
            <p:nvPr/>
          </p:nvSpPr>
          <p:spPr>
            <a:xfrm>
              <a:off x="5638680" y="1521000"/>
              <a:ext cx="1028880" cy="79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8115480" y="1295280"/>
            <a:ext cx="1028520" cy="304920"/>
            <a:chOff x="8115480" y="1295280"/>
            <a:chExt cx="1028520" cy="304920"/>
          </a:xfrm>
        </p:grpSpPr>
        <p:sp>
          <p:nvSpPr>
            <p:cNvPr id="267" name="Pyr1"/>
            <p:cNvSpPr/>
            <p:nvPr/>
          </p:nvSpPr>
          <p:spPr>
            <a:xfrm>
              <a:off x="8515800" y="1295280"/>
              <a:ext cx="230400" cy="673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Pyr2"/>
            <p:cNvSpPr/>
            <p:nvPr/>
          </p:nvSpPr>
          <p:spPr>
            <a:xfrm>
              <a:off x="8382240" y="1362600"/>
              <a:ext cx="496440" cy="79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Pyr3"/>
            <p:cNvSpPr/>
            <p:nvPr/>
          </p:nvSpPr>
          <p:spPr>
            <a:xfrm>
              <a:off x="8250120" y="1442160"/>
              <a:ext cx="760320" cy="792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Pyr4"/>
            <p:cNvSpPr/>
            <p:nvPr/>
          </p:nvSpPr>
          <p:spPr>
            <a:xfrm>
              <a:off x="8115480" y="1521000"/>
              <a:ext cx="1028520" cy="79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828800" y="685800"/>
            <a:ext cx="6858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762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nguiat Bk BT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Benguiat Bk BT"/>
              </a:rPr>
              <a:t>DIAGRAMA DE CAR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23623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 rot="5400000">
            <a:off x="-1971000" y="3189960"/>
            <a:ext cx="5408640" cy="552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CALCULO ESTATICO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849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q=623 kg/m</a:t>
            </a:r>
            <a:r>
              <a:rPr b="1" lang="es-ES_tradnl" sz="32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23623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Frisky"/>
              </a:rPr>
              <a:t>g= 423kg/m</a:t>
            </a:r>
            <a:r>
              <a:rPr b="1" lang="es-ES_tradnl" sz="3200" spc="-1" strike="noStrike" baseline="30000">
                <a:solidFill>
                  <a:srgbClr val="ffffff"/>
                </a:solidFill>
                <a:latin typeface="Benguiat Frisky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3429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Frisky"/>
              </a:rPr>
              <a:t>P= 200kg/m</a:t>
            </a:r>
            <a:r>
              <a:rPr b="1" lang="es-ES_tradnl" sz="3200" spc="-1" strike="noStrike" baseline="30000">
                <a:solidFill>
                  <a:srgbClr val="ffffff"/>
                </a:solidFill>
                <a:latin typeface="Benguiat Frisky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Frisky"/>
              </a:rPr>
              <a:t>g/p = 0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58672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enguiat Frisky"/>
              </a:rPr>
              <a:t>                                </a:t>
            </a:r>
            <a:r>
              <a:rPr b="1" lang="es-ES_tradnl" sz="2800" spc="-1" strike="noStrike">
                <a:solidFill>
                  <a:srgbClr val="00ff99"/>
                </a:solidFill>
                <a:latin typeface="Benguiat Frisky"/>
              </a:rPr>
              <a:t>Valores obtenidos por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23623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24382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diagrama1" descr=""/>
          <p:cNvPicPr/>
          <p:nvPr/>
        </p:nvPicPr>
        <p:blipFill>
          <a:blip r:embed="rId2"/>
          <a:stretch/>
        </p:blipFill>
        <p:spPr>
          <a:xfrm>
            <a:off x="0" y="4114800"/>
            <a:ext cx="6781680" cy="1905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05720" y="42670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59436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510552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/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304920" y="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943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DIAGRAMA DE MO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diagrama1" descr=""/>
          <p:cNvPicPr/>
          <p:nvPr/>
        </p:nvPicPr>
        <p:blipFill>
          <a:blip r:embed="rId2"/>
          <a:stretch/>
        </p:blipFill>
        <p:spPr>
          <a:xfrm>
            <a:off x="0" y="4191120"/>
            <a:ext cx="6781680" cy="2209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858000" y="441972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Benguiat Bk BT"/>
              </a:rPr>
              <a:t>M</a:t>
            </a:r>
            <a:r>
              <a:rPr b="1" lang="es-ES_tradnl" sz="2000" spc="-1" strike="noStrike" baseline="-25000">
                <a:solidFill>
                  <a:srgbClr val="ff0033"/>
                </a:solidFill>
                <a:latin typeface="Benguiat Bk BT"/>
              </a:rPr>
              <a:t>1</a:t>
            </a:r>
            <a:r>
              <a:rPr b="1" lang="es-ES_tradnl" sz="2000" spc="-1" strike="noStrike">
                <a:solidFill>
                  <a:srgbClr val="ff0033"/>
                </a:solidFill>
                <a:latin typeface="Benguiat Bk BT"/>
              </a:rPr>
              <a:t>=772 k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533412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/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304920" y="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278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DIAGRAMA DE MO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294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diagrama1" descr=""/>
          <p:cNvPicPr/>
          <p:nvPr/>
        </p:nvPicPr>
        <p:blipFill>
          <a:blip r:embed="rId2"/>
          <a:stretch/>
        </p:blipFill>
        <p:spPr>
          <a:xfrm>
            <a:off x="0" y="4114800"/>
            <a:ext cx="678168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05720" y="42670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0033"/>
                </a:solidFill>
                <a:uFillTx/>
                <a:latin typeface="Benguiat Bk BT"/>
                <a:hlinkClick r:id="rId3" action="ppaction://hlinksldjump"/>
              </a:rPr>
              <a:t> </a:t>
            </a:r>
            <a:r>
              <a:rPr b="0" lang="es-ES_tradnl" sz="2400" spc="-1" strike="noStrike" u="sng">
                <a:solidFill>
                  <a:srgbClr val="ff0033"/>
                </a:solidFill>
                <a:uFillTx/>
                <a:latin typeface="Benguiat Bk BT"/>
                <a:hlinkClick r:id="rId4" action="ppaction://hlinksldjump"/>
              </a:rPr>
              <a:t>M</a:t>
            </a:r>
            <a:r>
              <a:rPr b="0" lang="es-ES_tradnl" sz="2400" spc="-1" strike="noStrike" u="sng" baseline="-25000">
                <a:solidFill>
                  <a:srgbClr val="ff0033"/>
                </a:solidFill>
                <a:uFillTx/>
                <a:latin typeface="Benguiat Bk BT"/>
                <a:hlinkClick r:id="rId5" action="ppaction://hlinksldjump"/>
              </a:rPr>
              <a:t>1</a:t>
            </a:r>
            <a:r>
              <a:rPr b="0" lang="es-ES_tradnl" sz="2400" spc="-1" strike="noStrike" u="sng" baseline="-25000">
                <a:solidFill>
                  <a:srgbClr val="ff0033"/>
                </a:solidFill>
                <a:uFillTx/>
                <a:latin typeface="Benguiat Bk BT"/>
                <a:hlinkClick r:id="rId6" action="ppaction://hlinksldjump"/>
              </a:rPr>
              <a:t>= q l</a:t>
            </a:r>
            <a:r>
              <a:rPr b="0" lang="es-ES_tradnl" sz="2400" spc="-1" strike="noStrike" u="sng" baseline="30000">
                <a:solidFill>
                  <a:srgbClr val="ff0033"/>
                </a:solidFill>
                <a:uFillTx/>
                <a:latin typeface="Benguiat Bk BT"/>
                <a:hlinkClick r:id="rId7" action="ppaction://hlinksldjump"/>
              </a:rPr>
              <a:t>2</a:t>
            </a:r>
            <a:r>
              <a:rPr b="0" lang="es-ES_tradnl" sz="2400" spc="-1" strike="noStrike" u="sng" baseline="30000">
                <a:solidFill>
                  <a:srgbClr val="ff0033"/>
                </a:solidFill>
                <a:uFillTx/>
                <a:latin typeface="Benguiat Bk BT"/>
                <a:hlinkClick r:id="rId8" action="ppaction://hlinksldjump"/>
              </a:rPr>
              <a:t>/m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594360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510552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/m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304920" y="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943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DIAGRAMA DE MO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diagrama1" descr=""/>
          <p:cNvPicPr/>
          <p:nvPr/>
        </p:nvPicPr>
        <p:blipFill>
          <a:blip r:embed="rId2"/>
          <a:stretch/>
        </p:blipFill>
        <p:spPr>
          <a:xfrm>
            <a:off x="0" y="4114800"/>
            <a:ext cx="6781680" cy="22096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010280" y="59436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4572000"/>
            <a:ext cx="3200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= 322 k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80120" y="6278400"/>
            <a:ext cx="56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DIAGRAMA DE MO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13716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5715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5486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= q l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34290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Por otra parte se desea transformar las horas libres en horas en la que los alumnos puedan tener una actividad recreativa y/o cultu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Las clases de Educación Física en los días de lluvia se ven muy limitadas por la inexistencia de espacios físicos adecuados para tal f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492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diagrama1" descr=""/>
          <p:cNvPicPr/>
          <p:nvPr/>
        </p:nvPicPr>
        <p:blipFill>
          <a:blip r:embed="rId2"/>
          <a:stretch/>
        </p:blipFill>
        <p:spPr>
          <a:xfrm>
            <a:off x="0" y="4038480"/>
            <a:ext cx="6781680" cy="1981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705720" y="4572000"/>
            <a:ext cx="24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000" spc="-1" strike="noStrike" baseline="-25000">
                <a:solidFill>
                  <a:srgbClr val="ffff00"/>
                </a:solidFill>
                <a:latin typeface="Benguiat Bk BT"/>
              </a:rPr>
              <a:t>B</a:t>
            </a:r>
            <a:r>
              <a:rPr b="0" lang="es-ES_tradnl" sz="2000" spc="-1" strike="noStrike">
                <a:solidFill>
                  <a:srgbClr val="ffff00"/>
                </a:solidFill>
                <a:latin typeface="Benguiat Bk BT"/>
              </a:rPr>
              <a:t>= - 803 k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54864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600" y="6019920"/>
            <a:ext cx="56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DIAGRAMA DE MO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29400" y="13716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diagrama2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2743200" cy="3014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971800" y="3048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losa1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1116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28195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Benguiat Bk BT"/>
              </a:rPr>
              <a:t>DIAGRAMA IDEAL DE MOMENTO EN EL APOY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Export%20Wizard-7%20copy" descr=""/>
          <p:cNvPicPr/>
          <p:nvPr/>
        </p:nvPicPr>
        <p:blipFill>
          <a:blip r:embed="rId1"/>
          <a:stretch/>
        </p:blipFill>
        <p:spPr>
          <a:xfrm>
            <a:off x="0" y="1447920"/>
            <a:ext cx="5791320" cy="5105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8580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REDUCCIÓN DEL MOMENTO NEGATIVO EN EL APOY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1981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20574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1828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66ff"/>
                </a:solidFill>
                <a:latin typeface="Benguiat Bk BT"/>
              </a:rPr>
              <a:t>MB red.= MB + RB</a:t>
            </a: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2" action="ppaction://hlinksldjump"/>
              </a:rPr>
              <a:t>.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o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971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1752480"/>
            <a:ext cx="685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2590920"/>
            <a:ext cx="1447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B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5943600"/>
            <a:ext cx="22096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0 = 0.15m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abla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948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43600" y="426708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B= q 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q1B</a:t>
            </a:r>
            <a:r>
              <a:rPr b="0" lang="es-ES_tradnl" sz="2400" spc="-1" strike="noStrike" u="sng">
                <a:solidFill>
                  <a:srgbClr val="ff0033"/>
                </a:solidFill>
                <a:uFillTx/>
                <a:latin typeface="Benguiat Bk BT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380880" y="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TABLA – SOLICITACIONES DE LOSAS 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93760" y="4876920"/>
            <a:ext cx="203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B= q 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/q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RB=R1B+R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diagraama3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5867280" cy="1676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04920" y="54864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1371600"/>
            <a:ext cx="0" cy="205740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1371600"/>
            <a:ext cx="0" cy="2438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Export%20Wizard-7%20copy" descr=""/>
          <p:cNvPicPr/>
          <p:nvPr/>
        </p:nvPicPr>
        <p:blipFill>
          <a:blip r:embed="rId1"/>
          <a:stretch/>
        </p:blipFill>
        <p:spPr>
          <a:xfrm>
            <a:off x="0" y="1514520"/>
            <a:ext cx="5715000" cy="5038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80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REDUCCIÓN DEL MOMENTO NEGATIVO EN EL APOY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57800" y="1981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24480" y="20574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2860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66ff"/>
                </a:solidFill>
                <a:latin typeface="Benguiat Bk BT"/>
              </a:rPr>
              <a:t>MB red.= MB + RB.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o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2971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1752480"/>
            <a:ext cx="685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2590920"/>
            <a:ext cx="1447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MB 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6019920"/>
            <a:ext cx="221004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enguiat Bk BT"/>
              </a:rPr>
              <a:t>0 = 0.15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867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33"/>
                </a:solidFill>
                <a:latin typeface="Benguiat Bk BT"/>
              </a:rPr>
              <a:t>RB = 2577 kg/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5181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B </a:t>
            </a: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red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.= - </a:t>
            </a:r>
            <a:r>
              <a:rPr b="1" lang="es-ES_tradnl" sz="3600" spc="-1" strike="noStrike">
                <a:solidFill>
                  <a:srgbClr val="ff0033"/>
                </a:solidFill>
                <a:latin typeface="Benguiat Bk BT"/>
              </a:rPr>
              <a:t>706 kg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371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Benguiat Bk BT"/>
              </a:rPr>
              <a:t>Valores obtenidos por los alum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agnitudes estát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362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1 = 772 kg 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438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99"/>
                </a:solidFill>
                <a:latin typeface="Benguiat Bk BT"/>
              </a:rPr>
              <a:t>Momento en el tramo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038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2 = 322 kg 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49440" y="4114800"/>
            <a:ext cx="46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99"/>
                </a:solidFill>
                <a:latin typeface="Benguiat Bk BT"/>
              </a:rPr>
              <a:t>Momento en el tram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41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B = - 706 kg 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334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99"/>
                </a:solidFill>
                <a:latin typeface="Benguiat Bk BT"/>
              </a:rPr>
              <a:t>Momento en el apoy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Benguiat Bk BT"/>
              </a:rPr>
              <a:t>                           </a:t>
            </a:r>
            <a:r>
              <a:rPr b="1" lang="es-ES_tradnl" sz="2800" spc="-1" strike="noStrike">
                <a:solidFill>
                  <a:srgbClr val="ffcc66"/>
                </a:solidFill>
                <a:latin typeface="Benguiat Bk BT"/>
              </a:rPr>
              <a:t>Las respuestas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990720" y="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38080"/>
            <a:ext cx="502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M1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286000"/>
            <a:ext cx="3886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Si m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  &lt; 0.1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449568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= w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5410080"/>
            <a:ext cx="6019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00600" y="5867280"/>
            <a:ext cx="685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5410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  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c/     c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42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447920"/>
            <a:ext cx="106668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87840" y="6216480"/>
            <a:ext cx="357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real =      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1320" y="1676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eficiente adimen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2362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h     ver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33720" y="6094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cc"/>
                </a:solidFill>
                <a:latin typeface="Benguiat Bk BT"/>
              </a:rPr>
              <a:t>                                                           </a:t>
            </a:r>
            <a:r>
              <a:rPr b="0" lang="es-ES_tradnl" sz="18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38080"/>
            <a:ext cx="502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M1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286000"/>
            <a:ext cx="304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 = 0.0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&lt; 0.1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362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449568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1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</a:t>
            </a: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w</a:t>
            </a:r>
            <a:r>
              <a:rPr b="0" lang="es-ES_tradnl" sz="3600" spc="-1" strike="noStrike" u="sng" baseline="-25000">
                <a:solidFill>
                  <a:srgbClr val="ff0033"/>
                </a:solidFill>
                <a:uFillTx/>
                <a:latin typeface="Benguiat Bk BT"/>
                <a:hlinkClick r:id="rId2" action="ppaction://hlinksldjump"/>
              </a:rPr>
              <a:t>M</a:t>
            </a:r>
            <a:r>
              <a:rPr b="0" lang="es-ES_tradnl" sz="3600" spc="-1" strike="noStrike" u="sng" baseline="-25000">
                <a:solidFill>
                  <a:srgbClr val="ff0033"/>
                </a:solidFill>
                <a:uFillTx/>
                <a:latin typeface="Benguiat Bk BT"/>
                <a:hlinkClick r:id="rId3" action="ppaction://hlinksldjump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440" y="3429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                                </a:t>
            </a: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44792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= 72 000 kgcm/ 100 x 9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cm x 140 kg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62164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049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971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ABLA3" descr=""/>
          <p:cNvPicPr/>
          <p:nvPr/>
        </p:nvPicPr>
        <p:blipFill>
          <a:blip r:embed="rId1"/>
          <a:stretch/>
        </p:blipFill>
        <p:spPr>
          <a:xfrm>
            <a:off x="2666880" y="495360"/>
            <a:ext cx="4791240" cy="5867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 rot="5400000">
            <a:off x="-1562400" y="278136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TABL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VERIFICACIÓN DE h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DIMENSIONAMIENTO DE LA ARMADUR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029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33720" y="6094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cc"/>
                </a:solidFill>
                <a:latin typeface="Benguiat Bk BT"/>
              </a:rPr>
              <a:t>                                                           </a:t>
            </a:r>
            <a:r>
              <a:rPr b="0" lang="es-ES_tradnl" sz="18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38080"/>
            <a:ext cx="5029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M1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666880"/>
            <a:ext cx="3812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286000"/>
            <a:ext cx="304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 = 0.06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&lt; 0.1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2362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449568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1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w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5181480"/>
            <a:ext cx="5181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1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= 4.02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55627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8 c/ 10.5c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0440" y="34290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                                </a:t>
            </a: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44792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= 72 000 kgcm/ 100 x 9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x 140 kg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10080" y="6216480"/>
            <a:ext cx="327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5943600"/>
            <a:ext cx="617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real = 4.18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049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29200" y="2971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572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Se estima que por vez ocuparían cada lugar un promedio de 30 alum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59092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En  las clases de Educación Física tres cursos por turno y por día  se superpon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0880" y="45720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5240" y="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9880" y="25909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80988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</a:t>
            </a: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5105520"/>
            <a:ext cx="4052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54100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4920" y="5105520"/>
            <a:ext cx="24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c/   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9840" y="685800"/>
            <a:ext cx="410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2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2209680"/>
            <a:ext cx="170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00960" y="3809880"/>
            <a:ext cx="31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w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43434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572000"/>
            <a:ext cx="1828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600200"/>
            <a:ext cx="1523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38280" y="5943600"/>
            <a:ext cx="632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6019920"/>
            <a:ext cx="556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real =       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4760" y="315756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0760" y="4932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0880" y="45720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95240" y="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2666880"/>
            <a:ext cx="13716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73392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</a:t>
            </a: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9840" y="685800"/>
            <a:ext cx="410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2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304920" y="220968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0.03 &lt; 0.19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74960" y="3733920"/>
            <a:ext cx="342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Wm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3434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1600200"/>
            <a:ext cx="320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= 0.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29400" y="24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640" y="3108240"/>
            <a:ext cx="76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04440" y="685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5638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4038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ABLA3" descr=""/>
          <p:cNvPicPr/>
          <p:nvPr/>
        </p:nvPicPr>
        <p:blipFill>
          <a:blip r:embed="rId1"/>
          <a:stretch/>
        </p:blipFill>
        <p:spPr>
          <a:xfrm>
            <a:off x="2666880" y="495360"/>
            <a:ext cx="4791240" cy="5867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 rot="5400000">
            <a:off x="-1562400" y="278136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TABL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VERIFICACIÓN DE h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DIMENSIONAMIENTO DE LA ARMADUR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</p:txBody>
      </p:sp>
      <p:sp>
        <p:nvSpPr>
          <p:cNvPr id="452" name=""/>
          <p:cNvSpPr/>
          <p:nvPr/>
        </p:nvSpPr>
        <p:spPr>
          <a:xfrm>
            <a:off x="777240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5480" y="34290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80880" y="45720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5240" y="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ramo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666880"/>
            <a:ext cx="13716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73392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5105520"/>
            <a:ext cx="4052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1.65 cm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09880" y="5410080"/>
            <a:ext cx="7621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04320" y="5105520"/>
            <a:ext cx="32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6  c/  17  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9840" y="685800"/>
            <a:ext cx="410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2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304920" y="220968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= 0.04 &lt; 0.19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00960" y="3733920"/>
            <a:ext cx="31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33"/>
                </a:solidFill>
                <a:latin typeface="Benguiat Bk BT"/>
              </a:rPr>
              <a:t>w</a:t>
            </a:r>
            <a:r>
              <a:rPr b="0" lang="es-ES_tradnl" sz="3600" spc="-1" strike="noStrike" baseline="-25000">
                <a:solidFill>
                  <a:srgbClr val="ff0033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43434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95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As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 =0.055</a:t>
            </a:r>
            <a:r>
              <a:rPr b="0" lang="es-ES_tradnl" sz="1200" spc="-1" strike="noStrike">
                <a:solidFill>
                  <a:srgbClr val="ffff00"/>
                </a:solidFill>
                <a:latin typeface="Benguiat Bk BT"/>
              </a:rPr>
              <a:t>X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100cm</a:t>
            </a:r>
            <a:r>
              <a:rPr b="0" lang="es-ES_tradnl" sz="1000" spc="-1" strike="noStrike">
                <a:solidFill>
                  <a:srgbClr val="ffff00"/>
                </a:solidFill>
                <a:latin typeface="Benguiat Bk BT"/>
              </a:rPr>
              <a:t>X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9cm</a:t>
            </a:r>
            <a:r>
              <a:rPr b="0" lang="es-ES_tradnl" sz="1000" spc="-1" strike="noStrike">
                <a:solidFill>
                  <a:srgbClr val="ffff00"/>
                </a:solidFill>
                <a:latin typeface="Benguiat Bk BT"/>
              </a:rPr>
              <a:t>X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140kg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/4200kg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600200"/>
            <a:ext cx="320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s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= 0.03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943600"/>
            <a:ext cx="632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6019920"/>
            <a:ext cx="69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s</a:t>
            </a:r>
            <a:r>
              <a:rPr b="0" lang="es-ES_tradnl" sz="3600" spc="-1" strike="noStrike" baseline="-25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real =  1.66 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24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640" y="3108240"/>
            <a:ext cx="76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04440" y="685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5638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914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47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658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47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1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335268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43400" y="335268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3352680"/>
            <a:ext cx="45720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91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81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467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300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0532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6477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5943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524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387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533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29600" y="13716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8002440" y="3563640"/>
            <a:ext cx="110484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enguiat Bk BT"/>
              </a:rPr>
              <a:t>8.20 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enguiat Bk BT"/>
              <a:ea typeface="Benguiat Bk BT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34120" y="5181480"/>
            <a:ext cx="2666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4952880"/>
            <a:ext cx="304776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4267080"/>
            <a:ext cx="30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4267080"/>
            <a:ext cx="30456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52480" y="44956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819520" y="4266720"/>
            <a:ext cx="22860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426708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4343400"/>
            <a:ext cx="106704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4343400"/>
            <a:ext cx="304560" cy="3049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648320"/>
            <a:ext cx="106704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05520" y="4343040"/>
            <a:ext cx="304560" cy="3049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4343400"/>
            <a:ext cx="99072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29200" y="426708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4267080"/>
            <a:ext cx="22860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4572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543800" y="4266720"/>
            <a:ext cx="22860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42670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5280" y="304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DESPIECE DE LA ARMADURA SIN ARMADURA ADICIONAL EN LOS APOY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5867280"/>
            <a:ext cx="6858000" cy="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1371600"/>
            <a:ext cx="6858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7240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563868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7240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cc"/>
                </a:solidFill>
                <a:latin typeface="Benguiat Bk BT"/>
              </a:rPr>
              <a:t>EN LOS APOY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3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45720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</a:t>
            </a:r>
            <a:r>
              <a:rPr b="0" lang="es-ES_tradnl" sz="3600" spc="-1" strike="noStrike">
                <a:solidFill>
                  <a:srgbClr val="ff0000"/>
                </a:solidFill>
                <a:latin typeface="Benguiat Bk BT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90720"/>
            <a:ext cx="511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B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676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s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266688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72360" y="3809880"/>
            <a:ext cx="31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w</a:t>
            </a:r>
            <a:r>
              <a:rPr b="0" lang="es-ES_tradnl" sz="3600" spc="-1" strike="noStrike" u="sng" baseline="-25000">
                <a:solidFill>
                  <a:srgbClr val="ff0033"/>
                </a:solidFill>
                <a:uFillTx/>
                <a:latin typeface="Benguiat Bk BT"/>
                <a:hlinkClick r:id="rId2" action="ppaction://hlinksldjump"/>
              </a:rPr>
              <a:t>M</a:t>
            </a: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45720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5257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=   cm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63868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51055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ff"/>
                </a:solidFill>
                <a:latin typeface="Benguiat Bk BT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9880" y="353880"/>
            <a:ext cx="39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6080" y="3108240"/>
            <a:ext cx="76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EN LOS APOY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7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0.06 &lt; 0.19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304920" y="4572000"/>
            <a:ext cx="2362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</a:t>
            </a: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1066680"/>
            <a:ext cx="511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B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828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s =0.0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029200" y="312408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48320" y="4648320"/>
            <a:ext cx="31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w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04440" y="7621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4640" y="3733920"/>
            <a:ext cx="76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2849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487440" y="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ABLA3" descr=""/>
          <p:cNvPicPr/>
          <p:nvPr/>
        </p:nvPicPr>
        <p:blipFill>
          <a:blip r:embed="rId1"/>
          <a:stretch/>
        </p:blipFill>
        <p:spPr>
          <a:xfrm>
            <a:off x="2666880" y="495360"/>
            <a:ext cx="4791240" cy="586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 rot="5400000">
            <a:off x="-1562400" y="278136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TABL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VERIFICACIÓN DE h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Benguiat Bk BT"/>
              </a:rPr>
              <a:t>DIMENSIONAMIENTO DE LA ARMADURA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Benguiat Bk BT"/>
              <a:ea typeface="Benguiat Bk BT"/>
            </a:endParaRPr>
          </a:p>
        </p:txBody>
      </p:sp>
      <p:sp>
        <p:nvSpPr>
          <p:cNvPr id="562" name=""/>
          <p:cNvSpPr/>
          <p:nvPr/>
        </p:nvSpPr>
        <p:spPr>
          <a:xfrm>
            <a:off x="7772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3809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Benguiat Bk BT"/>
              </a:rPr>
              <a:t>EN LOS APOY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0.06 &lt; 0.19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45720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990720"/>
            <a:ext cx="511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ms = MB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1676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ms =0.0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66688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72360" y="3809880"/>
            <a:ext cx="31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w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M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0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h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R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/ B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Benguiat Bk BT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4572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As =0.114.100cm.9cm.140kg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/4200kg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5562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s =  3.42 cm</a:t>
            </a:r>
            <a:r>
              <a:rPr b="0" lang="es-ES_tradnl" sz="3600" spc="-1" strike="noStrike" baseline="30000">
                <a:solidFill>
                  <a:srgbClr val="ffffff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9200" y="5943600"/>
            <a:ext cx="838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10080" y="51055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00"/>
                </a:solidFill>
                <a:latin typeface="Benguiat Bk BT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04440" y="7621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cc"/>
                </a:solidFill>
                <a:latin typeface="Benguiat Bk BT"/>
              </a:rPr>
              <a:t>VERIFICACIÓN DE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6080" y="3108240"/>
            <a:ext cx="76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DIMENSIONAMIENTO DEL HIER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5880" y="2362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enguiat Bk BT"/>
              </a:rPr>
              <a:t>verifica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-487440" y="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enguiat Frisky"/>
              </a:rPr>
              <a:t>LA RESPUESTA DE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ARMADURA EN LOS APOY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1371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DEL TRAMO 1 SE LEVANTA LA MIT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DEL TRAMO 2 SE LEVANTA LA MIT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62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0.83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3429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TOTAL AS EN EL APOYO por hierro de los tr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62720" y="175248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2.09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38680" y="3581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2.92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45360" y="502920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enguiat Bk BT"/>
              </a:rPr>
              <a:t>TOTAL AS neces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4952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3.42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DIFER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2680" y="5867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0.50 cm</a:t>
            </a:r>
            <a:r>
              <a:rPr b="0" lang="es-ES_tradnl" sz="3600" spc="-1" strike="noStrike" baseline="30000">
                <a:solidFill>
                  <a:srgbClr val="ffff00"/>
                </a:solidFill>
                <a:latin typeface="Benguiat Bk BT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62485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586728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19920" y="5867280"/>
            <a:ext cx="3124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Benguiat Bk BT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0033"/>
                </a:solidFill>
                <a:uFillTx/>
                <a:latin typeface="Benguiat Bk BT"/>
                <a:hlinkClick r:id="rId1" action="ppaction://hlinksldjump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6 c/ 34 c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8380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La cantidad de cursos con horas libres por vez no se puede estim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143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29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1371600"/>
            <a:ext cx="2286000" cy="4495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90720" y="914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47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580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47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C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1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77120" y="3276720"/>
            <a:ext cx="685800" cy="6094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66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95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38880" y="3581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335268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3400" y="3352680"/>
            <a:ext cx="38088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3352680"/>
            <a:ext cx="45720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81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V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300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05320" y="64771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67280" y="64771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6520" y="59436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387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53360" y="60199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enguiat Bk BT"/>
              </a:rPr>
              <a:t>3.80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229600" y="13716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 rot="5400000">
            <a:off x="8002440" y="3563640"/>
            <a:ext cx="1104840" cy="371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enguiat Bk BT"/>
              </a:rPr>
              <a:t>8.20 m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enguiat Bk BT"/>
              <a:ea typeface="Benguiat Bk BT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34120" y="5181480"/>
            <a:ext cx="2666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4952880"/>
            <a:ext cx="304776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43000" y="4267080"/>
            <a:ext cx="304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4267080"/>
            <a:ext cx="30456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44956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819520" y="4266720"/>
            <a:ext cx="22860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8120" y="426708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4343400"/>
            <a:ext cx="106704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343400"/>
            <a:ext cx="304560" cy="3049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38480" y="4648320"/>
            <a:ext cx="106704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105520" y="4343040"/>
            <a:ext cx="304560" cy="3049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343400"/>
            <a:ext cx="990720" cy="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426708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4267080"/>
            <a:ext cx="22860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24480" y="4572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7543800" y="4266720"/>
            <a:ext cx="22860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772400" y="42670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304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Benguiat Bk BT"/>
              </a:rPr>
              <a:t>DESPIECE DE LA ARMADURA CON ARMADURA A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3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3000" y="5867280"/>
            <a:ext cx="6858000" cy="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3000" y="1371600"/>
            <a:ext cx="6858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001000" y="1371600"/>
            <a:ext cx="0" cy="44956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06668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72400" y="1295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63868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77240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15000" y="1371600"/>
            <a:ext cx="0" cy="449568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3962520"/>
            <a:ext cx="1447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3962520"/>
            <a:ext cx="1447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048120" y="42670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LOSAS CONTINU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4120" y="5791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00"/>
                </a:solidFill>
                <a:latin typeface="Benguiat Bk BT"/>
              </a:rPr>
              <a:t>SÍNT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80880" y="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PROCESO DE DIMENSIONAMIENTO DE LOSAS CONTINUAS DE HORMIGÓN A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14600" y="1447920"/>
            <a:ext cx="3581280" cy="947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Diseño de la estruc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2514600"/>
            <a:ext cx="0" cy="38088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304812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4572000"/>
            <a:ext cx="36576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Análisis de carga (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4600" y="2895480"/>
            <a:ext cx="3657600" cy="116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Predimensi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miento (h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4114800"/>
            <a:ext cx="0" cy="38088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67080" y="5638680"/>
            <a:ext cx="0" cy="38124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419720" y="0"/>
            <a:ext cx="0" cy="45720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609480"/>
            <a:ext cx="4800600" cy="180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Determinación de momentos máximos en los tramos y en los apoyos y reacciones en los apoy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34320" y="1752480"/>
            <a:ext cx="380880" cy="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228600"/>
            <a:ext cx="1371600" cy="3542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Uso de tab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m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q1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95680" y="2819520"/>
            <a:ext cx="0" cy="53316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09680" y="3505320"/>
            <a:ext cx="4800600" cy="947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reduce el momento en el apoy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4419720"/>
            <a:ext cx="0" cy="53316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 rot="5400000">
            <a:off x="-2066760" y="2600280"/>
            <a:ext cx="5790960" cy="165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Benguiat Bk BT"/>
              </a:rPr>
              <a:t>Proceso 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Benguiat Bk BT"/>
              </a:rPr>
              <a:t>de determinación 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Benguiat Bk BT"/>
              <a:ea typeface="Benguiat Bk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Benguiat Bk BT"/>
              </a:rPr>
              <a:t>de magnitudes estática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Benguiat Bk BT"/>
              <a:ea typeface="Benguiat Bk BT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343400" y="0"/>
            <a:ext cx="0" cy="45720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1523880"/>
            <a:ext cx="1905120" cy="1373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redimensi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760" y="658800"/>
            <a:ext cx="8045280" cy="119052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609480"/>
            <a:ext cx="3270240" cy="2746800"/>
          </a:xfrm>
          <a:prstGeom prst="diamond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verifica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1320" y="1981080"/>
            <a:ext cx="1066680" cy="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15000" y="1371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cc"/>
                </a:solidFill>
                <a:latin typeface="Benguiat Bk BT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3400" y="3048120"/>
            <a:ext cx="0" cy="76176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cc"/>
                </a:solidFill>
                <a:latin typeface="Benguiat Bk BT"/>
              </a:rPr>
              <a:t>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43200" y="3886200"/>
            <a:ext cx="3352680" cy="180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dimensionan las armaduras de los tramos y apoy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495680" y="3352680"/>
            <a:ext cx="3353040" cy="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48520" y="4800600"/>
            <a:ext cx="457200" cy="0"/>
          </a:xfrm>
          <a:prstGeom prst="line">
            <a:avLst/>
          </a:prstGeom>
          <a:ln w="381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0" y="3809880"/>
            <a:ext cx="1752480" cy="180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con ms se busca wm en tab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5791320"/>
            <a:ext cx="0" cy="53316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343400" y="0"/>
            <a:ext cx="0" cy="53352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685800"/>
            <a:ext cx="4267080" cy="947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busca diámetro y separación de las bar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5724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2895480"/>
            <a:ext cx="4267080" cy="13737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Benguiat Bk BT"/>
              </a:rPr>
              <a:t>se hace el diagrama de despiece de la armad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5638680"/>
            <a:ext cx="601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5720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Las</a:t>
            </a: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actividades previstas son</a:t>
            </a: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Benguiat Bk BT"/>
              </a:rPr>
              <a:t>para las clases de Educación Fís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646360"/>
            <a:ext cx="6248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juegos de salón (ajedrez, damas, .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ping-pong; meteg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clases con        actividades teór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  </a:t>
            </a:r>
            <a:r>
              <a:rPr b="0" lang="es-ES_tradnl" sz="3600" spc="-1" strike="noStrike">
                <a:solidFill>
                  <a:srgbClr val="ffff66"/>
                </a:solidFill>
                <a:latin typeface="Benguiat Bk BT"/>
              </a:rPr>
              <a:t>Para las horas lib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juegos de sal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0481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Benguiat Bk BT"/>
              </a:rPr>
              <a:t> 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escuchar música, leer libros, revistas, ver videos, usar Inter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D05545_" descr=""/>
          <p:cNvPicPr/>
          <p:nvPr/>
        </p:nvPicPr>
        <p:blipFill>
          <a:blip r:embed="rId1"/>
          <a:stretch/>
        </p:blipFill>
        <p:spPr>
          <a:xfrm>
            <a:off x="5805360" y="356544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223920"/>
            <a:ext cx="79250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Si bien la escuela cuenta c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una Biblioteca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una Sala de Audiovisuales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dos Laboratorios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Informática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todos se usan durante el desarrollo de las clases. Por ello no resulta fácil su utilización para el objetivo plantea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33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enguiat Bk BT"/>
              </a:rPr>
              <a:t>Se decide hacer una construcción nue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514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enguiat Bk BT"/>
              </a:rPr>
              <a:t>Desde esta cátedra proponemos colaborar con este proyecto</a:t>
            </a:r>
            <a:r>
              <a:rPr b="0" lang="es-ES_tradnl" sz="3200" spc="-1" strike="noStrike">
                <a:solidFill>
                  <a:srgbClr val="ffffff"/>
                </a:solidFill>
                <a:latin typeface="Swis721 Cn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BD05545_" descr=""/>
          <p:cNvPicPr/>
          <p:nvPr/>
        </p:nvPicPr>
        <p:blipFill>
          <a:blip r:embed="rId1"/>
          <a:stretch/>
        </p:blipFill>
        <p:spPr>
          <a:xfrm>
            <a:off x="5805360" y="357660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3000" y="49528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ff"/>
                </a:solidFill>
                <a:latin typeface="Benguiat Bk BT"/>
              </a:rPr>
              <a:t>¿</a:t>
            </a:r>
            <a:r>
              <a:rPr b="1" lang="es-ES_tradnl" sz="4800" spc="-1" strike="noStrike">
                <a:solidFill>
                  <a:srgbClr val="ffffff"/>
                </a:solidFill>
                <a:latin typeface="Benguiat Bk BT"/>
              </a:rPr>
              <a:t>CÓM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08:00:36Z</dcterms:created>
  <dc:creator>raul mont</dc:creator>
  <dc:description/>
  <dc:language>en-US</dc:language>
  <cp:lastModifiedBy>raul mont</cp:lastModifiedBy>
  <dcterms:modified xsi:type="dcterms:W3CDTF">2001-03-02T03:13:46Z</dcterms:modified>
  <cp:revision>68</cp:revision>
  <dc:subject/>
  <dc:title>Presentación de PowerPoint</dc:title>
</cp:coreProperties>
</file>